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4D5-72AE-4F5D-89FF-687CFF50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56E-6CCE-436B-9637-AFB859C5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E83-A5D2-42B0-A9CC-71B1E5F8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454-C3A7-49E1-80D2-9EF0E4B5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742-09EC-49EC-B7A2-D7B0B0F1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2E3-EF85-43C4-BAC2-1B2DE4A5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67B-3977-4D4C-867D-7012F8D3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19B0-3979-42E1-A542-633BC426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A7F-5CD7-48E6-9513-FC70E7AC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30E-26BF-4E89-B5F9-08844D4E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8FF-E833-41E1-825E-D5675AA0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76D-0507-45CE-8DDE-E211F7ED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344C-BCA5-41B5-A173-97B6E7DA3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aq’s le ch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than Tumein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25146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20968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q’s le chateau has hiut le chambre, a gym, a indoor basketball court, a steam room, and a su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shaqs star island estate Shaquille ONeals House in Miami"/>
          <p:cNvPicPr/>
          <p:nvPr/>
        </p:nvPicPr>
        <p:blipFill>
          <a:blip r:embed="rId1"/>
          <a:stretch/>
        </p:blipFill>
        <p:spPr>
          <a:xfrm>
            <a:off x="0" y="3462480"/>
            <a:ext cx="434340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Bed ro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a26 star island15 Shaquille ONeals House in Miami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9:08:53Z</dcterms:created>
  <dc:creator>edill</dc:creator>
  <dc:description/>
  <dc:language>en-US</dc:language>
  <cp:lastModifiedBy>edill</cp:lastModifiedBy>
  <dcterms:modified xsi:type="dcterms:W3CDTF">2011-11-09T18:24:59Z</dcterms:modified>
  <cp:revision>3</cp:revision>
  <dc:subject/>
  <dc:title>LaBron James’s House</dc:title>
</cp:coreProperties>
</file>